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7A4-12E6-467E-B209-99E70718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6E4-FA6B-4FA9-AFC7-A719DD6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A95-A030-4D03-A89A-344D7A4D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6BCD-0264-47ED-BF3C-FC9D519F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216-7C38-4C1B-BF5E-70F790D2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DC8-2745-4CFD-A061-9E8AAE1A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73D-3C1A-4457-B063-2439DBF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C20-4A3F-4158-B65E-1311D34F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72D-DE99-4226-89D2-3877FA60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A73-6817-46BA-9820-56B430D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A48-AE55-4B07-84FE-0438375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CF5-6978-4F31-AE50-51470EAC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7C6-D9D8-41FB-9B3B-D35BDC4A9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upc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January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February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733920" y="586584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CI/CprE/ComS 575X: Computational Per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owa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right ©  Alexander Stoytc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Like the Sample Ima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" y="19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web page to create your own license plat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cme.com/licensemaker/licensemaker.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Submit (for part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original images, your result images, and your code on the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de must work on at least five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either matlab or OpenCV for part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rade will not depend on the method and/or platform that you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640" y="12189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t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1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Mathematical Morp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5840" y="1165320"/>
            <a:ext cx="91137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2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reading barco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 read the following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upc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: Download the five sample barcode images from the class web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06440" y="187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 Write code that reads the barcode from the image and prints its 12 digits on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this in 2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arcode by interpreting the vertical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arcode by recognizing the human readable digits with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2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reading barco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4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code Examp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imple cas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5920" y="2241720"/>
            <a:ext cx="3773520" cy="281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4641840" y="2133720"/>
            <a:ext cx="44006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2640" y="18900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code Examp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you will get extra credit if your code can work with any one of the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962520" cy="308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barcode_3"/>
          <p:cNvPicPr/>
          <p:nvPr/>
        </p:nvPicPr>
        <p:blipFill>
          <a:blip r:embed="rId2"/>
          <a:stretch/>
        </p:blipFill>
        <p:spPr>
          <a:xfrm>
            <a:off x="725400" y="2606760"/>
            <a:ext cx="2981520" cy="163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barcode_4"/>
          <p:cNvPicPr/>
          <p:nvPr/>
        </p:nvPicPr>
        <p:blipFill>
          <a:blip r:embed="rId3"/>
          <a:stretch/>
        </p:blipFill>
        <p:spPr>
          <a:xfrm>
            <a:off x="903240" y="4724280"/>
            <a:ext cx="26002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Submit (for 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your original barcode images, your result images, and your code on the Wi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de must work on at least two bar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the sample barcode images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for you then scan some barcodes and use them inste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either matlab or OpenCV for part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rade will not depend on the method and/or platform that you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#2 (Part 3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cense Plat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Write a program that finds the occurrence of the numbe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 image of car license pla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Modify your program to find the occurrences of all numbers 0-9 in an image of a license plate. Letters can be ski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code will be evaluated with images of the same type (i.e., Iowa license p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License Pl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osted on the class web pag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late_01"/>
          <p:cNvPicPr/>
          <p:nvPr/>
        </p:nvPicPr>
        <p:blipFill>
          <a:blip r:embed="rId1"/>
          <a:stretch/>
        </p:blipFill>
        <p:spPr>
          <a:xfrm>
            <a:off x="3657600" y="15238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plate_02"/>
          <p:cNvPicPr/>
          <p:nvPr/>
        </p:nvPicPr>
        <p:blipFill>
          <a:blip r:embed="rId2"/>
          <a:stretch/>
        </p:blipFill>
        <p:spPr>
          <a:xfrm>
            <a:off x="914400" y="33526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plate_03"/>
          <p:cNvPicPr/>
          <p:nvPr/>
        </p:nvPicPr>
        <p:blipFill>
          <a:blip r:embed="rId3"/>
          <a:stretch/>
        </p:blipFill>
        <p:spPr>
          <a:xfrm>
            <a:off x="3581280" y="33526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late_04"/>
          <p:cNvPicPr/>
          <p:nvPr/>
        </p:nvPicPr>
        <p:blipFill>
          <a:blip r:embed="rId4"/>
          <a:stretch/>
        </p:blipFill>
        <p:spPr>
          <a:xfrm>
            <a:off x="6400800" y="33526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plate_05"/>
          <p:cNvPicPr/>
          <p:nvPr/>
        </p:nvPicPr>
        <p:blipFill>
          <a:blip r:embed="rId5"/>
          <a:stretch/>
        </p:blipFill>
        <p:spPr>
          <a:xfrm>
            <a:off x="914400" y="518148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plate_06"/>
          <p:cNvPicPr/>
          <p:nvPr/>
        </p:nvPicPr>
        <p:blipFill>
          <a:blip r:embed="rId6"/>
          <a:stretch/>
        </p:blipFill>
        <p:spPr>
          <a:xfrm>
            <a:off x="3657600" y="5105520"/>
            <a:ext cx="1905120" cy="97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plate_07"/>
          <p:cNvPicPr/>
          <p:nvPr/>
        </p:nvPicPr>
        <p:blipFill>
          <a:blip r:embed="rId7"/>
          <a:stretch/>
        </p:blipFill>
        <p:spPr>
          <a:xfrm>
            <a:off x="6400800" y="5181480"/>
            <a:ext cx="1905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42:36Z</dcterms:created>
  <dc:creator>Alex Stoytchev</dc:creator>
  <dc:description/>
  <dc:language>en-US</dc:language>
  <cp:lastModifiedBy>Alexander Stoytchev</cp:lastModifiedBy>
  <dcterms:modified xsi:type="dcterms:W3CDTF">2015-01-27T22:56:25Z</dcterms:modified>
  <cp:revision>18</cp:revision>
  <dc:subject/>
  <dc:title>Slide 1</dc:title>
</cp:coreProperties>
</file>